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47AD-5FCE-443A-8102-2BDAD52C58C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hyperlink" Target="http://www.parlament.gov.rs/upload/archive/files/lat/doc/istrazivanja/Prava%20pacijenata%20lat.docx" TargetMode="External"/><Relationship Id="rId2" Type="http://schemas.openxmlformats.org/officeDocument/2006/relationships/slide" Target="../slides/slide2.xml"/><Relationship Id="rId3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hyperlink" Target="https://www.paragraf.rs/propisi/zakon_o_pravima_pacijenata.html" TargetMode="External"/><Relationship Id="rId2" Type="http://schemas.openxmlformats.org/officeDocument/2006/relationships/slide" Target="../slides/slide40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s://www.paragraf.rs/propisi/zakon_o_pravima_pacijenata.html" TargetMode="External"/><Relationship Id="rId2" Type="http://schemas.openxmlformats.org/officeDocument/2006/relationships/slide" Target="../slides/slide8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374-2131-4814-83A8-07ACE15719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о на доступну и квалитетну здравствену заштиту, у складу са својим здравственим стањем, а у границама материјалних могућности система здравствене зашт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о на једнак приступ здравственој служби, без дискриминације у односу на финансијске могућности, место становања, врсту обољења, време приступа здравственој служби или у односу на неку другу различитост која може да буде узрок дискриминациј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43F2-4541-4A08-8B77-1977D29E01B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о на све врсте информација о стању свог здравственог стања, здравственој служби и начину како је користи, као и на све информације које су на основу научних истраживања и технолошких иновација доступ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о на информације о правима из здравственог осигурања и поступцима за остварење тих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аво на информацију о имену и презимену и професионалном статусу здравствених радника, односно здравствених сарадника који учествују у предузимању медицинске мере и поступку његивог лечења уопш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66FF-6EA2-4C09-B641-20795E645B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 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говарајућ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луг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чу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напређе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реча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узбиј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н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ткри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ремећај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З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групац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новништв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лож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већа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изи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оле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8B97-8FA4-49D0-BBBC-B345D4E6AD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лаговрем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валитет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луг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ње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тврђен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учн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ндарди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валите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луг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говарајућ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и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уж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луг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уман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м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DA06-5829-4A9C-9A77-21C140661A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 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бедно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тварив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време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стигнућ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у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у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циље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из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јповољније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хо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мање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стана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жељен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ледиц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јм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гућ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5AF1-DFAB-4F42-A7A8-A2E40F224B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длеж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лаговреме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об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треб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оне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длу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та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иста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лож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⁃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бухв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ијагно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огно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оле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рата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пис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ори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лож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ај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узим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епредузим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лож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рс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вероватноћ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гућ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риз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бол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руг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оред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рај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алтернатив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тод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цијентов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узим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едлож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уж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начи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могу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според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т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1CC9-45E5-4F67-9659-7F0EDEE9BA5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раже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ме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зумљив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одећ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чу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о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ро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разов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емоционалн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ц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ил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злог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зу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т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ла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ро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зна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з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ужбено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потреб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ритори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водилац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глувоне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езбед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умач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1292-B5CF-4DAA-A10F-17F8FE6C4F0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узет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ћута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ијагноз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изик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мањ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збиљ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пасно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нат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шкод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шт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ла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ро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A623-6D9A-4B73-A25A-1DBD6FD335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ободан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оматолог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ободан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бор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кла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ређу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лас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ређу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лас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игурањ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8236-7843-4C07-8BD9-CC642E2F98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оматолог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чествова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уж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луг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траж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руг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уч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ишљ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ог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B719-98AC-4EC3-887F-B0C1406671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arlament.gov.rs/upload/archive/files/lat/doc/istrazivanja/Prava%20pacijenata%20lat.doc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Права пацијента су се развијала кроз историју, као и већина других тековина међународног права, кроз међународне уговоре – конвенције, декларације и повеље у светским оквирима и документа Европске уније и Савета Европе у европском оквиру. Појам права пацијената је развијен из концепта личности Универзалне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декларације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о људским правима Уједињених нација из 1948. године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оја у члану 25. људима признаје „урођено достојанство“ и „једнака и неотуђива права свих чланова људске породице“, и права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на здравље и здравствену негу. Иако Универзална декларација није међународни споразум са правно обавезујућом снагом она има ауторитет и утицала је на доношње правно обавезујућих споразума Уједињених нација: Међународног пакта о грађанским и политичким правима и Међународног пакта о економским, социјалним и културним правима (право на највиши степен здравља који може да се постигне чл.12.) и многе друге документе као што су Међународна конвенције о укидању свих облика дискриминације жена (укидање дискриминације жена у здравственој заштити чл.12. и право жена из руралних области на приступ здравственим установама чл.14. став 2-б), Међународна конвенција о укидању свих облика расне дискриминације (забрана расне дискриминације у здравственој заштити чл.5., став 1-е)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1100" spc="-1" strike="noStrike">
                <a:solidFill>
                  <a:srgbClr val="000000"/>
                </a:solidFill>
                <a:latin typeface="Calibri"/>
              </a:rPr>
              <a:t>Конвенција о правима детета (право на највиши могући степен здравствене заштите, чл.24.), Међународна конвенција за заштиту права свих радника миграната и чланова њихових породица (право на здравствену заштиту, чл.28.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9D53-EE8D-4F5C-A446-35A29477CE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верљивос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чн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општи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радни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њ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љ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тенцијал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ијагностичк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рапијск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ватнос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ровође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ијагностич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пити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ече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цели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егле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имањ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општ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уствова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ц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радниц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посред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чествуј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гле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имањ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ил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глед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имањ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г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уствова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чениц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уден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исокошколских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ук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рх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љ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ктич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став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ц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радниц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љ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правничк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ж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ручн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авршавањ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11F5-DC38-4DE3-8175-06853E61AE5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ацијен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собан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суђивањ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а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учај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ом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асав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ржав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жив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Надлеж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ан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каж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ледиц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лук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ањ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траж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исм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јав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р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ува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ој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ументациј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вањ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исмен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јав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м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чинит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ужб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леш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ументациј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пису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ата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тан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ск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ступник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ањ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Ак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вршил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15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годин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живот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собно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суђивањ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ан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танак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тражи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ског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ступника</a:t>
            </a:r>
            <a:r>
              <a:rPr b="0" lang="vi-V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8BDD-399A-42A0-BB69-6FF9BD6C02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На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е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руг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злог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опш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о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тана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ит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е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тан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е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ст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ланов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родиц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ве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гућ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Медицинс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 предуз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нзилијар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ск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ступ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те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ше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лов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ступ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биј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лож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ит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хит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е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јбоље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нтере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ок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ператив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хв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јав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ширење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га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тпостав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ширењ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ператив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хв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нов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ц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то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оматологи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дуз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хва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одлож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треб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2068-F78B-4986-BE04-4E86497659F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ра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опств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говорнос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пу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ционар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учајев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писа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ебн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мер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пушт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â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исм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јав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чу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о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ументаци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одата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пушт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ја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з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пиш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ументациј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А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ет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ше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лов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пособно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з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пуштањ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ционар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аве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е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лагањ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његов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конск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ступ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дле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рган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ратељ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45C0-6729-45D8-A872-DEF7DF18C6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оје и документи других међународних организација о правима пацијента који нису правно обавезујући али су значајни у примени моралних и дипломатских притисака на владе држава које крше неке или све од њихових одредаба као на пример: Декларација из Алма Ате Светске здравствене организације из 1978. године која је била важна за промоцију здравља, Декларација о правима пацијената Светске медицинске организације из 1981. године која се односи на право на повељивост информација и на сагласност пацијента, Декларација о здравственој заштити орјентисаној ка пацијенту Интернационалне алијансе организација пацијента из 2006. године која представља интересе удружења пацијената у системима здравствене заштите кроз укључивање пацијента на свим нивоима на којима се доносе одлуке, посебно када се те одлуке тичу њиховог здравља и начина живота. Треба споменути и Универзалну декларацију о биотеци и људским правима УНЕСКО-а из 2005. године, Етичке принципе за медицинска истраживања која укључују људске субјекте и Отавску декларацију о правима детета на здравствену заштиту Светске медицинске асоцијације из 1964., односно 1998. године, Принципе права пацијента у Европи Светске здравствене организације из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94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годи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FC36-998A-4D73-AB07-A04F30AE491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матр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краће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ступк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рад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краће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ек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лас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одне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говор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уково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цес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иректор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днос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снивач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ватн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к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ветн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B0AA-EB82-4927-AAA6-E90B5F3B86D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Здравстве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ват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ц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идно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ст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стакн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ези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рем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вет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адре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број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лефо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ратит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аштит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војих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циљ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ефикас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вет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станов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ват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кс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н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лиц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ужн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ветни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а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суств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здравственог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радник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могућ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вид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медицинск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документациј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ацијент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вези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наводима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изнетим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игово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F3E1-1F2A-453B-8832-C2EF03981CF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дносилац приговора, који је незадовољан извештајем саветника пацијената, може се, у складу са законом, обратити Савету за здравље, здравственој инспекцији, односно надлежном органу организације здравственог осигурања код које је пацијент здравствено осигу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ветник пацијената доставља месечни извештај о поднетим приговорима директору здравствене установе, ради његовог информисања и предузимања одређених мера у оквиру његове надле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аветник пацијената доставља тромесечни, шестомесечни и годишњи извештај Савету за здрављ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Министар надлежан за послове здравља прописује начин поступања по приговору, образац и садржај записника и извештаја саветника пацијената, у року од три месеца од дана ступања на снагу овог зак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54EF-4587-4F99-89EF-A04FDC40A1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1100" spc="-1" strike="noStrike">
                <a:solidFill>
                  <a:srgbClr val="000000"/>
                </a:solidFill>
                <a:latin typeface="Calibri"/>
              </a:rPr>
              <a:t>У европским оквирима главни стандарди који штите људска права у систему здравствене заштите су обавезујућа документа Европске уније као и документа Савета Европе и цивилног сектора. Савет Европе је у циљу остваривања основних личних и демократских права и слобода у Европи донео неке од најважнијих докумената и успоставио Европски суд за људска права као део сталног система правне заштите. Водећи документ у остваривању људских права, донет само две године од доношења Универзалне декларације Уједињених нација, је Европска конвенција о људским правима из 1950. године чије су потписнице све државе чланице, затим Европска социјална повеља из 1961. године која је водећи регионални инструмент за економска и социјална права за чије остваривање је надлежан Европски комитет за социјална права кроз периодичне извештаје држава и колективне жалбе. За остваривање права пацијента од нарочите важности је Конвенција о људским правима и биомедицини која обавезује све државе које су је ратификовале да се поштује и штити хумана суштина људског бића у случајевима сукоба са научним достигнућима који би имали карактер злоупотребе знања из области биомедицине. Неке од главних одредби ове Конвенције су правичан приступ здравственој заштити у члану 3., право на информацију и слободан пристанак у чл. 5. до чл. 9 и право на поштовање приватног живота у вези информација о своме здрављу у чл. 10. Од многобројних препорука Савета Европе које се тичу остваривања права пацијената треба истаћи Препоруку бр. Р (2000) 5 Комитета министара/ки земљама чланицама о развоју структура за учешће грађана/ки и пацијената/киња у процесу доношења одлука које утичу на здравствену заштиту, која има снажан политички и морални утицај у мултикултурним друштвима где су одређене групе обично маргинализоване тако што осигурава једнако учешће за сваког појединца у процесу доношења одлука које се односе на здравствену негу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19BBA-605A-407E-AC4F-F3C77FF1392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paragraf.rs/propisi/zakon_o_pravima_pacijenat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B6C8-7624-4141-8F9B-06F4CD36833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У погледу развоја права пацијената у Европи од нарочите важности била је Европска консултација о правима пацијената одржана у Амстердаму 1994. године под покровитељством Регионалне канцеларије Светске здравствене организације за Европу (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ХО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RS" sz="900" spc="-1" strike="noStrike">
                <a:solidFill>
                  <a:srgbClr val="000000"/>
                </a:solidFill>
                <a:latin typeface="Calibri"/>
              </a:rPr>
              <a:t>ЕУРО) чији је циљ био да се дефинишу принципи и стратегије за промовисање права пацијената у контексту већ започетог  процеса здравствене реформе у већини европских земаља. Резултат овог састанка је документ Декларација о промоцији права пацијената у Европи који поставља принципе за промоцију и имплементацију права пацијената у земљама Европске уније. Иако необавезујућа ова Декларација фокусирана на права пацијената на информацију, сагласност, поверљивост и приватност у здравственој нези и заштити је постала важан почетни документ који је обезбедио имплементацију поменутих права и доношење других докумената. Две године касније Светска здравствена организација је донела Љубљанску повељу о реформи здравствене заштите која садржи неколико основних принципа којима се осигурава боље здравље и квалитет живота пацијената као и њихово активно учешће у дефинисању бољих услова пружања здравствене неге. Покрет за права пацијената широм Европе захтевао је активнију улогу пацијената у креирању пружања здравствених услуга као и да се постојеће необавезујуће одредбе регионалних докумената о здравственој заштити дефинишу као обавезујуће. У Риму је 2002. године донета Европска повеља о правима пацијената, Мреже за активно учешће грађана у сарадњи са 12 различитих удружења грађана из земаља Европске уније. Ова повеља, познатија као Римска повеља, представљала је основу за реформу здравствене заштите у Европској унији иако није правно обавезујућа јер је јака мрежа групе за људска права и права пацијената широм Европе управо захваљујући њој лобирала код својих политичких представника за признавање и прихватање права из ове повеље.  Права ове повеље су утемељена у основним људским правима Повеље о основним људским правима у Европској унији и као таква морају се препознати и поштовати у свакој земљи. Повеља такође представља и полазну основу за праћење и евалуацију система здравствене заштите у Европи. Повеља препознаје четрнаест конкретних права пацијента која заједно за циљ имају гаранцију високог нивоа заштите људског здравља и високог нивоа квалитета здравствених услуга у различитим националним здравственим службама у Европи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254-08AA-4F95-AA51-CA474195AFB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ава пацијента из ове Повеље, а како и стоји у њеном трећем делу под називом Смернице за имплементацију Повеље, могу бити инкорпорирана у национална законодавства и законодавство Европске уније у целини или делимично. У Повељи о основним правима Европске уније из 2000. године, која је од 2009. године ступањем на снагу Лисабонског уговора постала правно обавезујућа у ЕУ, једно од основих права садржано у члану 35. је право на здравствену заштиту. Свако од грађана Европске уније има право на превентивну здравствену заштиту и право на медицински третман под условима који су регулисани националним законима и праксом. У свим дефиницијама, као и у примени политике и делатности Европске уније мора се предвидети високи ниво заштите људског здравља. Индивидуална права пацијената у Европској унији су заштићена путем појединачних докумената као што је Директива о заштити података којом се нарочито штити приступ осетљивим личним подацима о здрављу (чл.8.) и Директива о клиничким испитивањима која штити права пацијената, као и особа које нису способне да дају свој пристанак, у клиничким испитивањима успостављањем јасне и траспарентне процедуре добре клиничке пракс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4797-CFF0-49E7-B00A-75CA4ECB79C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paragraf.rs/propisi/zakon_o_pravima_pacijenat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EE25-3799-433E-967C-5756706BE5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20D-784A-40A0-891E-7EA4ED5F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E0C0-06AF-49C2-9197-CE3F5596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352-DD59-4A81-8F07-CFEE9AD75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CCFA-08BC-4CF8-BD8F-F906D773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3C3-EEC1-4CB3-AC22-F4752C17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8D09-3378-46E1-BD70-C86ED1C7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2A1A-047C-405F-8FD4-13E8BDC6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DEA-EFF2-4686-AD9C-D8794C63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8706-5FE2-4E09-B3D3-2586FD98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978-7071-4094-9C8E-21140575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473F-5358-49EA-8C36-2EC9278F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986A-08AB-4CBD-B452-D6981BB4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155F-DDF2-4794-BC66-BA609C5DE4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Права пацијената и повеља о правима пацијенат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Заштитник права пацијената у здравственим установама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50920" y="3715920"/>
            <a:ext cx="864216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c00000"/>
                </a:solidFill>
                <a:latin typeface="Garamond"/>
              </a:rPr>
              <a:t>доц. др Милица Боровчанин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Garamond"/>
              </a:rPr>
              <a:t>Интегрисане академске студије стоматологиј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Garamond"/>
              </a:rPr>
              <a:t>Предмет: Етик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Garamond"/>
              </a:rPr>
              <a:t>школска 2020/2021. годин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Garamond"/>
              </a:rPr>
              <a:t>5. недеља наставе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" name="Picture 46" descr=""/>
          <p:cNvPicPr/>
          <p:nvPr/>
        </p:nvPicPr>
        <p:blipFill>
          <a:blip r:embed="rId1"/>
          <a:stretch/>
        </p:blipFill>
        <p:spPr>
          <a:xfrm>
            <a:off x="3938760" y="103320"/>
            <a:ext cx="1511280" cy="18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доступност здравствене заштите (Члан 6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Доступна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 и квалитетна здравствена зашти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У складу са здравственим стањем пацијента, а у границама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материјалних могућности </a:t>
            </a: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система здравствене заштит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еднак приступ здравственој служби, </a:t>
            </a: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без дискриминације </a:t>
            </a: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Право на информације (Члан 7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нформациј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 стању здравственог стања, здравственој служби и начину како је користити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оје су на основу научних истраживања и технолошких иновација доступне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 правима из здравственог осигурања и поступцима за остварење тих права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о имену и презимену и професионалном статусу здравствених радник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превентивне мере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(Члан 8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уг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чув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напређе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речав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збиј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ног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ткрив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ест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ремећај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групаци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новништв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лож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већано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ризик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болевања</a:t>
            </a:r>
            <a:br>
              <a:rPr sz="2600"/>
            </a:b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квалитет пружања здравствене услуге (Члан 9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Благовреме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валитетна здравстве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уг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говарајућ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ив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уж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уг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хуманог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нос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м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безбедност пацијента (Члан 10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Циљ ј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тиза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јповољнијег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сход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ече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мањењ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ризик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стана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жељен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диц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јмањ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обавештење (Члан 11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авештење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ухвата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јагноз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гноз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е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рата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пис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циљ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рис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рем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рај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им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предузим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рст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ероватноћ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изи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ред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рај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лтернатив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тод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ече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м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им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уж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м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чи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живо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70720" indent="-2707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јст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еко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ред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јст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Специфичности обавештавања пацијен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Надлежни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радник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је обавештење и без тражења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 разумљив начин, водећи рачуна о старости, образовању и емоционалном статусу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колико пацијент не разуме дато обавештење, оно се може дати члану пацијентове уже породице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колико не разуме језик потребно је обезбедити преводиоца, уколико је глувонем тумача..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needlenthread.com/Images/patterns/Hand_Embroidery/lily_pattern_corner.gif"/>
          <p:cNvPicPr/>
          <p:nvPr/>
        </p:nvPicPr>
        <p:blipFill>
          <a:blip r:embed="rId1"/>
          <a:stretch/>
        </p:blipFill>
        <p:spPr>
          <a:xfrm>
            <a:off x="6343560" y="4314960"/>
            <a:ext cx="2800440" cy="2543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рећуткивање дијагнозе??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ћута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јагноз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изи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еште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м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мањи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тој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збиљ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паснос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ештење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натно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шкодит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дрављ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 случају прећуткивања дијагнозе бавеште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ат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члан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ж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родиц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слободан избор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(Члан 12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лободан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збор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ктор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октор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томатологи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лободан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бор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друго стручно мишљење (Члан 13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о стручно мишљење о стању свог здравља о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кто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октор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томатологиј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рект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чествова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ужањ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уге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eedlenthread.com/Images/patterns/Hand_Embroidery/lily_pattern_corner.gif"/>
          <p:cNvPicPr/>
          <p:nvPr/>
        </p:nvPicPr>
        <p:blipFill>
          <a:blip r:embed="rId1"/>
          <a:stretch/>
        </p:blipFill>
        <p:spPr>
          <a:xfrm>
            <a:off x="6343560" y="4314960"/>
            <a:ext cx="2800440" cy="2543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ојам права пацијена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јам права пацијена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 развијен из концепта Универзал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кларац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 људским правима Уједињених нација из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1948. годин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 члану 25. људима признаје „урођено достојанство“ и „једнака и неотуђива права свих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чланова људске породице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“, и права на здравље и здравствену нег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приватност и поверљивост (Члан 14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оверљивост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вих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личних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нформација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општи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длежно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о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к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о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раднику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них које се однос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њ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ог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тенцијал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јагностичк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ерапијск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цедуре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иватност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током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провођењ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ијагностичких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спитивањ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лечењ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целини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рисуствовање предузимању медицинских мера: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ц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радниц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посред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чествуј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глед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имањ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чениц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удент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школ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исокошколских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руке,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рх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љ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ктич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став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ц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радниц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к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љ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правничког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ж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ручног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авршава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си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ако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то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т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бије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пристанак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(Члан 15 и 16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лобод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лучу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ем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шт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ич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живо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сим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лучајев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рект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грожав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живот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дрављ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ругих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лиц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стан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м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 на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и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е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икак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има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нвазив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јагностич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ерапиј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опходан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исмен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истанак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конск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ступник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Одбијање предложене медицинске мере (Члан 17 и 19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м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би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ак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 кад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ом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асав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живот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казивање 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едиц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лук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уз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исмен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зјаву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и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лужбен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белешк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ете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које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је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вршило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15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годин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живот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соб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суђивањ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би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длеж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к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ужан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истанак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траж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конског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ступник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Спровођење хитне медицинске мере (Члан 18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о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е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злог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њ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опш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ој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стана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хитн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едицинск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ер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ож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едузет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без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његовог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истанка конзилијар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ем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ести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ланов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ж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ро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ве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гућ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конск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ступни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те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шен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ов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собно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ступан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биј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ложе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хит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хит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ж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е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јбоље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нтере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увид у медицинску документацију (Члан 20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ви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ој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кументациј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ланов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ж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ро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мај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узет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ви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кументациј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ла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родиц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ац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начај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ихо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ече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Право на поверљивост података о здравственом стању пацијента 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(Члан 21)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ца кој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овлашће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стан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конск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ступни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сполаж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ац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кументац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овлашће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но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авнос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ат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говорн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ава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рочито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сетљивих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датака</a:t>
            </a:r>
            <a:br>
              <a:rPr sz="2600"/>
            </a:b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Право пацијента који учествује у медицинском истраживању 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(Члан 25 и 31)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Етичк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бор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нос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лу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узимањ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страживањ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истанак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исменом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блик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штит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живот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дрављ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т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ве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нос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нтерес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шт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ук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кнаду, уколико претрп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штет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Право пацијента да на сопствену одговорност напусти стационарну здравствену установу (Члан 27)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 има 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опстве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говорнос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пу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ционар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у и дужан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 да о том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â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исмен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зјав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т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шен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ов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собно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длежн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езан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пуштањ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ционар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е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лаг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њег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конског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ступник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носно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длежн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рган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таратељств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Право на олакшавање патњи и бола </a:t>
            </a:r>
            <a:br>
              <a:rPr sz="3800"/>
            </a:br>
            <a:r>
              <a:rPr b="1" lang="ru-RU" sz="3800" spc="-1" strike="noStrike">
                <a:solidFill>
                  <a:srgbClr val="c00000"/>
                </a:solidFill>
                <a:latin typeface="Garamond"/>
              </a:rPr>
              <a:t>(Члан 28)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јвиш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и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лакшавањ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т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шт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разуме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ерапиј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хума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лијатив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брињава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1.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ла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дразумев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еутаназиј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00000"/>
                </a:solidFill>
                <a:latin typeface="Garamond"/>
              </a:rPr>
              <a:t>Документи међународних организација о правима пацијената</a:t>
            </a:r>
            <a:endParaRPr b="0" lang="en-US" sz="3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9280" y="1341000"/>
            <a:ext cx="8856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1978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: Декларација из Алма Ате Светске здравствене организације –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омоција здрављ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1981: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Декларација о правима пацијената Светске медицинске организације – право н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верљивост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информација и н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агласност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2005: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Универзална декларација о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биоетици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и људским правима Организације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разовање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уку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ултуру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једињених</a:t>
            </a:r>
            <a:r>
              <a:rPr b="0" lang="pl-PL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ција (УНЕСКО)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1964: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Етички принципи з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едицинска истраживањ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а укључују људске субјекте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1998: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Отавска декларација о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авима дете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 здравствену заштиту Светске медицинске асоцијациј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ојам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Garamond"/>
              </a:rPr>
              <a:t>еутаназије</a:t>
            </a: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азивањ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чи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мрт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т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соб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шт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годниј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болниј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чин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ој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кинул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подношљив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олов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тњ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ж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ит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тив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сивн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већин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европских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конодавстав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је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брањен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матр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ривични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ело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ди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емљ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им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звоље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лгиј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Холандиј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уксембург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зитивно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рпско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аву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матра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е кривични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ело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то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ивилеговани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бликом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биства!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поштовање пацијентовог времена (Члан 29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лучај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то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ов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уж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мах пацијент им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аво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казивањ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егле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јагностичк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цеду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их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р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тупак спрове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ајкраћем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огућем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рок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во на приговор (Члан 30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који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матра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му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ускраћено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аво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однесе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иговор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о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уковод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цесо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ректор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дносн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снивач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ват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к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л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штит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ацијент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Дужности пацијена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дговорност пацијен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 лично здравље, према другим корисницима здравствених услуга и према здравственим радницима, односно здравственим сарадницим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Ак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т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држа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ужно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в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ко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ж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тказат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ужањ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аљ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дравствен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заштит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т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узев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хит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дицинск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моћи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Заштита права пацијена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Заштиту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рав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езбеђује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јединиц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локалне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самоуправе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дређивањем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лиц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које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обавља</a:t>
            </a:r>
            <a:r>
              <a:rPr b="0" lang="vi-VN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послов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штит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разовање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1" name="Picture 2" descr="http://www.needlenthread.com/Images/patterns/Hand_Embroidery/lily_pattern_corner.gif"/>
          <p:cNvPicPr/>
          <p:nvPr/>
        </p:nvPicPr>
        <p:blipFill>
          <a:blip r:embed="rId1"/>
          <a:stretch/>
        </p:blipFill>
        <p:spPr>
          <a:xfrm>
            <a:off x="6343560" y="4314960"/>
            <a:ext cx="28004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Саветник за заштиту права пацијената (Члан 39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штит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(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аветник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ат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ипломиран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авник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ложени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ручни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спито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јмањ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три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године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радног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скуства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труц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знавање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опи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ласт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ављ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лов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штит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нети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говор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уж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требн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нформациј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ез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им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Достављање података саветнику за заштиту права пацијената </a:t>
            </a:r>
            <a:br>
              <a:rPr sz="4000"/>
            </a:b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(Члан 40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ват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к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ц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ужн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видном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ст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стакн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контакт податке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саветника 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ват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кс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н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ц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ужни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суству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ог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радника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могуће</a:t>
            </a:r>
            <a:r>
              <a:rPr b="0" lang="en-GB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вид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едицинск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документацију</a:t>
            </a:r>
            <a:r>
              <a:rPr b="1" lang="en-GB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ацијен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 вези са приговором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Више инстанце у заштити права пацијената (Члан 41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носилац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говор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ој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езадовољан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звештаје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ож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клад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коно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братити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Савету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дравље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дравственој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инспекцији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надлежном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органу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организације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здравственог</a:t>
            </a:r>
            <a:r>
              <a:rPr b="0" lang="vi-VN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осигурања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ник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ацијенат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остављ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месечн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звештај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днети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говорим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иректор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као и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тромесечн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,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шестомесечн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годишњи</a:t>
            </a:r>
            <a:r>
              <a:rPr b="1" lang="vi-VN" sz="2600" spc="-1" strike="noStrike">
                <a:solidFill>
                  <a:srgbClr val="c00000"/>
                </a:solidFill>
                <a:latin typeface="Garamond"/>
              </a:rPr>
              <a:t>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звешта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ј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вет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Практична примена 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Garamond"/>
              </a:rPr>
              <a:t>Закона о правима пацијена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618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Конвенција о људским правим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000000"/>
                </a:solidFill>
                <a:latin typeface="Garamond"/>
              </a:rPr>
              <a:t>Поштује се и штити хумана суштина у случајевима сукоба са научним достигнућима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,</a:t>
            </a:r>
            <a:r>
              <a:rPr b="0" lang="bs-Cyrl-BA" sz="2600" spc="-1" strike="noStrike">
                <a:solidFill>
                  <a:srgbClr val="000000"/>
                </a:solidFill>
                <a:latin typeface="Garamond"/>
              </a:rPr>
              <a:t> који би имали карактер </a:t>
            </a:r>
            <a:r>
              <a:rPr b="1" lang="bs-Cyrl-BA" sz="2600" spc="-1" strike="noStrike">
                <a:solidFill>
                  <a:srgbClr val="c00000"/>
                </a:solidFill>
                <a:latin typeface="Garamond"/>
              </a:rPr>
              <a:t>злоупотребе знања из области биомедицине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600" spc="-1" strike="noStrike">
                <a:solidFill>
                  <a:srgbClr val="000000"/>
                </a:solidFill>
                <a:latin typeface="Garamond"/>
              </a:rPr>
              <a:t>Одредбе Конвенције су: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000000"/>
                </a:solidFill>
                <a:latin typeface="Garamond"/>
              </a:rPr>
              <a:t>правичан приступ здравственој заштити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000000"/>
                </a:solidFill>
                <a:latin typeface="Garamond"/>
              </a:rPr>
              <a:t>право на информацију и слободан пристанак,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Cyrl-BA" sz="2400" spc="-1" strike="noStrike">
                <a:solidFill>
                  <a:srgbClr val="000000"/>
                </a:solidFill>
                <a:latin typeface="Garamond"/>
              </a:rPr>
              <a:t>право на поштовање приватног живота у вези информација о своме здрављу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Закон о заштити лица са менталним сметњама</a:t>
            </a:r>
            <a:br>
              <a:rPr sz="3800"/>
            </a:b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(“￼Сл. гласник РС”, бр. 45/2013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Овим законом се уређују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сновн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чел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рганизовањ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ровођењ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аштит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нталног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љ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начин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оступак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организациј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лов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ечењ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мештај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без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истанк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ц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менталним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метњама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тационарне и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друг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станове</a:t>
            </a:r>
            <a:r>
              <a:rPr b="0" lang="vi-VN" sz="2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http://www.needlenthread.com/Images/patterns/Hand_Embroidery/lily_pattern_corner.gif"/>
          <p:cNvPicPr/>
          <p:nvPr/>
        </p:nvPicPr>
        <p:blipFill>
          <a:blip r:embed="rId1"/>
          <a:stretch/>
        </p:blipFill>
        <p:spPr>
          <a:xfrm>
            <a:off x="395280" y="0"/>
            <a:ext cx="2800440" cy="2543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needlenthread.com/Images/patterns/Hand_Embroidery/lily_pattern_corner.gif"/>
          <p:cNvPicPr/>
          <p:nvPr/>
        </p:nvPicPr>
        <p:blipFill>
          <a:blip r:embed="rId2"/>
          <a:stretch/>
        </p:blipFill>
        <p:spPr>
          <a:xfrm>
            <a:off x="6343560" y="4314960"/>
            <a:ext cx="2800440" cy="254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43280" y="274320"/>
            <a:ext cx="584352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артнерски однос пацијента и здравственог радник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9280" y="2565000"/>
            <a:ext cx="763272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днос пацијента ка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римаоца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дравствених услуга и здравственог радника као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даваоца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здравствених услуга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Узајамно поверење и поштовање 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између пацијента и здравственог радника, на свим нивоима здравствене заштите, као права и дужности </a:t>
            </a: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партнера</a:t>
            </a: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 у том однос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Европска повеља о правима пацијената - Римска повеља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Garamond"/>
              </a:rPr>
              <a:t>(2002)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Основа за реформу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здравствене заштите у Европској унији, иако није правно обавезујућа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едставља и полазну основу за праћење и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евалуацију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система здравствене заштите у Европи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Права ове повеље су утемељена у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вељи о основним људским правима у Европској унији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Повеља о основним правима Европске уније (ЕУ) (2000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aramond"/>
              </a:rPr>
              <a:t>2009: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Лисабонски уговор - правно обавезујућа у Е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Члан 35. дефинише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аво на здравствену заштиту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вако од грађана ЕУ има право н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ревентивну здравствену заштиту и право на медицински третман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 под условима који су регулисани националним законима и праксом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Индивидуална права пацијена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 ЕУ су заштићена путем појединачних докумената: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Директива о заштити података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Директива о клиничким испитивањима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Garamond"/>
              </a:rPr>
              <a:t>Способност одлучивања у служби остварења права пацијената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собност одлучивањ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несамосталног пацијента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(деменција, схизофренија, делиријум, суицидалност...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Способност одлучивањ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самосталног 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Упознавање са </a:t>
            </a: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потребом за соматским лечењем </a:t>
            </a: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и модалитетима лечењ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Garamond"/>
              </a:rPr>
              <a:t>Витална угроженост пацијента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Garamond"/>
              </a:rPr>
              <a:t>Закон о заштити права пацијената</a:t>
            </a:r>
            <a:br>
              <a:rPr sz="3800"/>
            </a:br>
            <a:r>
              <a:rPr b="1" lang="ru-RU" sz="2600" spc="-1" strike="noStrike">
                <a:solidFill>
                  <a:srgbClr val="000000"/>
                </a:solidFill>
                <a:latin typeface="Garamond"/>
              </a:rPr>
              <a:t>(“￼Сл. гласник РС”, бр. 45/2013 и 25/2019 - др. закон)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Овим законом се уређују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рава пацијената приликом коришћења здравствене заштите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начин остваривања и начин заштите тих права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4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као и друга питања у вези са правима и дужностима пацијент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Garamond"/>
              </a:rPr>
              <a:t>Загарантована права пацијента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Гарантује се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једнако право на квалитетну и континуирану здравствену заштиту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ступање у складу са здравственим стањем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римена општеприхваћених стручних стандарда и етичких норми,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ступање у најбољем интересу и 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64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aramond"/>
              </a:rPr>
              <a:t>поштовање личних ставова.</a:t>
            </a:r>
            <a:endParaRPr b="0" lang="en-US" sz="2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7T09:59:34Z</dcterms:created>
  <dc:creator>Milica Borovcanin</dc:creator>
  <dc:description/>
  <dc:language>en-US</dc:language>
  <cp:lastModifiedBy>Windows User</cp:lastModifiedBy>
  <dcterms:modified xsi:type="dcterms:W3CDTF">2021-01-31T08:46:46Z</dcterms:modified>
  <cp:revision>68</cp:revision>
  <dc:subject/>
  <dc:title>Неуротрансмитери</dc:title>
</cp:coreProperties>
</file>